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5.png" ContentType="image/png"/>
  <Override PartName="/ppt/media/image13.wmf" ContentType="image/x-wmf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2046-67A3-48AF-B180-DDE6CF94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C57-259D-404E-82C3-1DEE9CE0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151-365F-4A95-A53B-B248652C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0DDB-F2F7-4A54-8743-2A4AAC56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C2D8-C9CC-4D12-91CF-70311E62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2947-673A-4384-9DBF-A4C3A2CB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46F4-30C5-4A56-AB05-B99FD866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E464-7787-40FE-B25E-21E5CD2E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837A-47D0-46A9-AB97-0D47279F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B5BC-4EAE-48EE-A99A-FD1E6476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A9BA-2DD8-40D4-99E0-A25B98A5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AF6-DDBC-42A8-BB32-04A94060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B89E-BBEF-42E6-AC17-8EBA0A2E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9737-63BD-4676-94A1-D8F52B3B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BFC1-9B11-4794-87D8-0DBCB5B8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E35D-8B51-48C0-B128-1AF392D7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5D81-E961-47E0-9375-993CE626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F4E0-3FE3-472D-A7B9-62E8F0B6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4BF-A4A8-4648-B234-F8A0471E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EC4-7D74-4672-8618-25A1A99A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AFE9-AE33-4B0D-AFEF-516B6464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962-A08B-4205-9603-69DD66C6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ABF-4D80-49B2-AD7F-94FD7F1C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36C-F22F-4D57-BCBE-7D81BCF1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52D1-0DE0-4246-B07A-6BE55ED83B22}" type="slidenum">
              <a:rPr b="0" lang="ru-RU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firstslide"/>
          </p:cNvPr>
          <p:cNvSpPr/>
          <p:nvPr/>
        </p:nvSpPr>
        <p:spPr>
          <a:xfrm>
            <a:off x="6248520" y="647712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Перейти на первую страницу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758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6248520" y="647712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Перейти на первую страницу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C88B-FF68-4E4A-A2DA-B4B467E4D9FC}" type="slidenum">
              <a:rPr b="0" lang="ru-RU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0021"/>
                </a:solidFill>
                <a:latin typeface="Times New Roman"/>
              </a:rPr>
              <a:t>ЛОГИЧЕСКИЕ ОСНОВЫ</a:t>
            </a:r>
            <a:r>
              <a:rPr b="1" lang="en-US" sz="6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a50021"/>
                </a:solidFill>
                <a:latin typeface="Times New Roman"/>
              </a:rPr>
              <a:t>ПОСТРОЕНИЯ </a:t>
            </a:r>
            <a:br>
              <a:rPr sz="6600"/>
            </a:br>
            <a:r>
              <a:rPr b="1" lang="ru-RU" sz="6600" spc="-1" strike="noStrike">
                <a:solidFill>
                  <a:srgbClr val="a50021"/>
                </a:solidFill>
                <a:latin typeface="Times New Roman"/>
              </a:rPr>
              <a:t>ЭВМ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76160"/>
            <a:ext cx="8076960" cy="33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6699"/>
                </a:solidFill>
                <a:latin typeface="Arial Narrow"/>
              </a:rPr>
              <a:t>СТРУКТУРНЫЕ ФОРМУЛЫ И ФУНКЦИОНАЛЬНЫЕ СХЕМЫ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14440" y="38160"/>
          <a:ext cx="6251760" cy="1090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38160"/>
                    <a:ext cx="6251760" cy="1090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414440" y="38160"/>
          <a:ext cx="6251760" cy="1090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38160"/>
                    <a:ext cx="6251760" cy="1090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0" y="0"/>
          <a:ext cx="9144000" cy="697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9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414440" y="38160"/>
          <a:ext cx="6251760" cy="1090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38160"/>
                    <a:ext cx="6251760" cy="1090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19160" y="90360"/>
          <a:ext cx="8905680" cy="667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160" y="90360"/>
                    <a:ext cx="8905680" cy="667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414440" y="38160"/>
          <a:ext cx="6251760" cy="1090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38160"/>
                    <a:ext cx="6251760" cy="1090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04920" y="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000"/>
                </a:solidFill>
                <a:latin typeface="Times New Roman"/>
              </a:rPr>
              <a:t>Г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465120"/>
          <a:ext cx="8491320" cy="623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65120"/>
                    <a:ext cx="849132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414440" y="38160"/>
          <a:ext cx="6251760" cy="1090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38160"/>
                    <a:ext cx="6251760" cy="1090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19160" y="90360"/>
          <a:ext cx="8905680" cy="667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160" y="90360"/>
                    <a:ext cx="8905680" cy="667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2949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6699"/>
                </a:solidFill>
                <a:latin typeface="Arial Narrow"/>
              </a:rPr>
              <a:t>ПОСТРОЕНИЕ ЛОГИЧЕСКИХ ВЫРАЖЕНИЙ ПО ТАБЛИЦЕ ИСТИННОСТИ </a:t>
            </a:r>
            <a:br>
              <a:rPr sz="6600"/>
            </a:br>
            <a:br>
              <a:rPr sz="8000"/>
            </a:br>
            <a:br>
              <a:rPr sz="8000"/>
            </a:b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Arial Narrow"/>
              </a:rPr>
              <a:t>АЛГОРИТМ:</a:t>
            </a:r>
            <a:br>
              <a:rPr sz="4000"/>
            </a:b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066680"/>
            <a:ext cx="91440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.</a:t>
            </a:r>
            <a:r>
              <a:rPr b="0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Для каждой строки таблицы истинности с единичным значением функции построить минтерм. (Минтермом называется терм-произведение (конъюнкция), в котором каждая переменная встречается только один раз – либо с отрицанием, либо без него). Переменные, имеющие нулевые значения в строке, входят в минтерм с отрицанием, а переменные со значением единица – без отрицания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.</a:t>
            </a:r>
            <a:r>
              <a:rPr b="0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Объединить все минтермы операцией дизъюнкции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533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А)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609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А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76440" y="361800"/>
          <a:ext cx="5991120" cy="613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361800"/>
                    <a:ext cx="5991120" cy="613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80880" y="457200"/>
          <a:ext cx="853452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5345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520" y="775800"/>
            <a:ext cx="7162560" cy="25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6699"/>
                </a:solidFill>
                <a:latin typeface="Arial Narrow"/>
              </a:rPr>
              <a:t>ЛИСТ ОПОРНЫХ СИГНАЛОВ 1 (ЛОС1)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9880" y="3733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ИНФО №3, 1997 Г., С. 26,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презентация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ABOTA.PP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Times New Roman"/>
              </a:rPr>
              <a:t>А)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09480" y="685800"/>
          <a:ext cx="815364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81536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457200" y="609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380880" y="380880"/>
          <a:ext cx="853452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53452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04920" y="4572000"/>
                <a:ext cx="845820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e>
                        </m:ba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e>
                        </m:ba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r>
                          <m:t xml:space="preserve">≡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e>
                        </m:ba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e>
                        </m:ba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r>
                          <m:t xml:space="preserve">≡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r>
                          <m:t xml:space="preserve">⋅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e>
                        </m:ba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≡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e>
                        </m:ba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≡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e>
                        </m:ba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≡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 Narrow"/>
              </a:rPr>
              <a:t>ИНФОРМАЦИЯ НА ЛОС1 -</a:t>
            </a:r>
            <a:r>
              <a:rPr b="1" lang="ru-RU" sz="4000" spc="-1" strike="noStrike">
                <a:solidFill>
                  <a:srgbClr val="336699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Arial Narrow"/>
              </a:rPr>
              <a:t>ЭТО СИСТЕМАТИЗИРОВАННОЕ НАГЛЯДНОЕ ПРЕДСТАВЛЕНИЕ СЛЕДУЮЩИХ ПОНЯТИЙ.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Функциональная схема ЭВМ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Структура оперативной памяти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нцип адресации ячеек памяти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нцип программного управления ЭВМ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Операция ввода информации и операция присваивания, их роль в алгоритмах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 Narrow"/>
              </a:rPr>
              <a:t>Урок «Структурные формулы и функциональные схемы»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5909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2514600"/>
            <a:ext cx="6629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INFO (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Обучающая программа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2. ПРЕЗЕНТАЦИИ: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*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Схемы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.pp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*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Лог_выражение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.pp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06:36:39Z</dcterms:created>
  <dc:creator>Пустоваченко Н.Н.</dc:creator>
  <dc:description/>
  <dc:language>en-US</dc:language>
  <cp:lastModifiedBy>PVV</cp:lastModifiedBy>
  <dcterms:modified xsi:type="dcterms:W3CDTF">2004-06-28T13:21:27Z</dcterms:modified>
  <cp:revision>293</cp:revision>
  <dc:subject>Занятие №2. Логические основы ПК.</dc:subject>
  <dc:title>Курсы по логике в ГМЦИТ</dc:title>
</cp:coreProperties>
</file>